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D41-04B4-4D41-8736-DCC66439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622-CEE7-4939-A438-8DE24A6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F55-8087-47EE-9B60-85152722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68-037E-4225-9158-179C6C28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C6E-5C0E-4A84-BCA8-ED0D1FD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F26-D90D-4875-BEA7-DBDBBC2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BA2D-A966-4058-A47F-61DA9344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327F-3806-4202-8A5B-3AC97293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8E1-629C-45FE-829C-2493B05D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4DB-1D11-4964-992C-BB7BD77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31E0-DEC0-4536-A878-342D295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5B4-543F-4A4C-97C2-873B00C9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E6D-6917-4F91-AD24-7548541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FF86-A7AD-4C51-BD9E-A2385653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BE20-72CB-48FA-B1FE-84F3D37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70C-47E6-4731-A761-0DDF70C1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CF5F-0E50-4319-A437-530814DF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28792-6440-4A8B-8345-D3ECFA84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4BF39-3C28-4C8D-BA28-2D2F2803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269B9-0415-4050-95FD-6617186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69F98-7F0D-44B1-9C12-AB4770C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A82C9-C663-41C8-B4BD-A639BCC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515-97C5-4FD8-8583-BA8E25E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B9BD7-0E39-4AC1-91DA-7609C58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8F886-33A3-4145-B3B5-59F5D75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A4638-D2EC-468B-AB98-3E42C90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62223-0CBB-4999-8C3B-569A76C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E8A07-D0DD-47F5-9A6E-5E1EEA9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7438B-2D64-489A-9F79-8DEEFAA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3D69E-4ACC-40FB-A0DE-98668799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11170-EBB3-4C48-8664-F72CFE3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1E498-5F23-4672-B071-92C5A70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D3497-44C8-40F1-9AA5-3EE4A4A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267-6133-4837-B237-0E56129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C6B64-9675-41B8-B24F-DFC0705D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13083-84E2-4A3F-93AF-5663C0F1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C1A97-E177-4483-BB20-64EB8AA3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E87B0-749F-4EF8-80B0-406BE19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40A4A-A817-429C-B23D-502C6CF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5C6D4-74F8-48B7-ACFD-B1237B5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E62D7-AA8D-4886-92BF-A14FA9C8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E5E97-95C3-42CE-9683-77342547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3345E-5837-49FB-BE7F-420A85D3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0C3AE-D289-4C43-8FD5-253FC0FB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EFD-13F6-45BD-8446-F55A5B5B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C302E-48E5-4FB6-B122-D52C9A0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3864C-4620-4C4B-98E6-956CC946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A2CEB-5448-454C-BC84-78A0168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AD22A-231D-48E4-9A60-0441E26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D50FD-FF52-4542-9D25-A2C2C372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E2E89-65B3-4A49-AC50-FEF3712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AD264-ABE0-4E48-B55A-A638D60C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444D3-31EE-4745-8FC5-FDB7C10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C3285-BE0C-4AC7-BD18-FCEE481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4F213-7F3C-48BA-8D3B-D447456F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1D0-145A-44C2-BFDB-02FC051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29606-AB66-4ADE-BB5D-E87E726F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128C0-225E-4F7E-943F-359EF95F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B47-D40D-4944-97AC-FA916981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0C9F-519A-43C4-9997-6C9EE48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5905-1CF0-4293-B2A9-8D3E3CC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326BD-1131-4E5B-932D-094678C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24E4-CD69-4C00-BD4E-436A2E3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5293A-4198-45D1-9506-340DBCE7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7D841-5162-48E8-BD45-474C36C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C380-CEB4-4454-A9C9-1846D70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11D-6030-4124-BB7D-D5F5434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9171-369F-42A5-8102-1C95554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D1E4-18FE-4EF6-B03B-49D4B635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9527-1E57-4633-9DCE-5DDA9723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5CF8D-F51F-4A85-A356-D6824519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C3789-C56C-465B-829E-B95B3B90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E33FD-926B-4580-A715-D431563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CD14F-A18E-4EA8-97CA-C750474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8AF5D-437E-4DEA-A111-FFE09408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C2FB4-F475-429D-853C-37617C6A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0253A-7664-4C0B-85E6-789C336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2F5-DB28-4EAD-AC81-499F992D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1807F-660A-4345-BB47-4AA0827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6172D-4402-48A2-9673-5D4DAB9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A3E8C-0E3C-4F99-B55D-E4C707E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4E1C3-4DC5-409E-806E-0DF542D1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F655E-1D9F-4073-A697-9B142BE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BFEC-AE63-4D5D-8E5D-11911B8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58C66-6A58-4397-AB8F-C176B7F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0AC49-07DC-4C47-8D74-5250C8E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3566-9F06-47AA-966A-0827C8C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C0E7-12C6-4D98-BEC1-1AC814D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1EA-E33F-460D-B774-2A370EF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4D48-07C8-4E19-9DF2-599324C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5FBEC-46F0-41A2-8900-59CA740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2CC7-D782-40E2-9457-0D40C7D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EC28-DF1C-4F90-B0E2-B31C747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0EAB-7CE8-49E7-97DD-8F9CD915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F5818-F63A-4B67-8395-DE7A97E9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2E60-7382-444C-AEF1-947B5CEF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9CB-7B08-4301-BEDF-7E04C89707E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4712-BCD2-4E02-BD32-65CE1A01003B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62E-20A5-4AAD-BCF9-65F05EBAC64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2C9-079C-447C-9E55-35379ABD31C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8FD-015E-4115-AB6C-723859647ED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8EB-4CFE-443F-BEEE-F7FAE13D4104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C89-C5E6-4D98-A400-B6B58707989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8DA5-E9DF-491D-8764-40821C9F273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Kim McLane &amp; Abby Shaff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4" descr=""/>
          <p:cNvPicPr/>
          <p:nvPr/>
        </p:nvPicPr>
        <p:blipFill>
          <a:blip r:embed="rId1"/>
          <a:stretch/>
        </p:blipFill>
        <p:spPr>
          <a:xfrm>
            <a:off x="347760" y="487440"/>
            <a:ext cx="87897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  </a:t>
            </a: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The Multiplier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ultipli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ratio of the change in EGDP divided by the original change in spending that causes the change in GD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4" name="Group 7"/>
          <p:cNvGrpSpPr/>
          <p:nvPr/>
        </p:nvGrpSpPr>
        <p:grpSpPr>
          <a:xfrm>
            <a:off x="3505320" y="3657600"/>
            <a:ext cx="5029200" cy="1008720"/>
            <a:chOff x="3505320" y="3657600"/>
            <a:chExt cx="5029200" cy="1008720"/>
          </a:xfrm>
        </p:grpSpPr>
        <p:sp>
          <p:nvSpPr>
            <p:cNvPr id="355" name="TextBox 4"/>
            <p:cNvSpPr/>
            <p:nvPr/>
          </p:nvSpPr>
          <p:spPr>
            <a:xfrm>
              <a:off x="3505320" y="365760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Multiplier= Change in GDP (Y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    Change in Spending (C, I, G, X-I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6"/>
            <p:cNvSpPr/>
            <p:nvPr/>
          </p:nvSpPr>
          <p:spPr>
            <a:xfrm>
              <a:off x="4786200" y="4003560"/>
              <a:ext cx="3429000" cy="1440"/>
            </a:xfrm>
            <a:prstGeom prst="line">
              <a:avLst/>
            </a:prstGeom>
            <a:ln w="1008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The Multiplier &amp; The MPC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ula in reference to the MPC (oversimplified multiplier formula):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PC (Marginal Propensity to Consume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ratio of changes in consumption relative to changes in disposable income that produce the change in consum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9" name="Group 14"/>
          <p:cNvGrpSpPr/>
          <p:nvPr/>
        </p:nvGrpSpPr>
        <p:grpSpPr>
          <a:xfrm>
            <a:off x="2133720" y="2438280"/>
            <a:ext cx="5029200" cy="1191240"/>
            <a:chOff x="2133720" y="2438280"/>
            <a:chExt cx="5029200" cy="1191240"/>
          </a:xfrm>
        </p:grpSpPr>
        <p:sp>
          <p:nvSpPr>
            <p:cNvPr id="360" name="TextBox 9"/>
            <p:cNvSpPr/>
            <p:nvPr/>
          </p:nvSpPr>
          <p:spPr>
            <a:xfrm>
              <a:off x="2133720" y="2438280"/>
              <a:ext cx="502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w Cen M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w Cen MT"/>
                </a:rPr>
                <a:t>1-MP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13"/>
            <p:cNvSpPr/>
            <p:nvPr/>
          </p:nvSpPr>
          <p:spPr>
            <a:xfrm>
              <a:off x="3962520" y="3047760"/>
              <a:ext cx="1523880" cy="1440"/>
            </a:xfrm>
            <a:prstGeom prst="line">
              <a:avLst/>
            </a:prstGeom>
            <a:ln w="3492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5"/>
          <p:cNvSpPr/>
          <p:nvPr/>
        </p:nvSpPr>
        <p:spPr>
          <a:xfrm>
            <a:off x="3886200" y="51055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∆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9"/>
          <p:cNvSpPr/>
          <p:nvPr/>
        </p:nvSpPr>
        <p:spPr>
          <a:xfrm>
            <a:off x="3886200" y="5506920"/>
            <a:ext cx="685800" cy="1800"/>
          </a:xfrm>
          <a:prstGeom prst="line">
            <a:avLst/>
          </a:prstGeom>
          <a:ln w="10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</a:rPr>
              <a:t>Multiplier Effect of Consumer Spending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Induced Increase in Consump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 increase in consumer spending that stems from an increase in consumer in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Autonomous Increase in Consump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 increase in consumer spending without any increased incom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onsumption Func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grpSp>
        <p:nvGrpSpPr>
          <p:cNvPr id="367" name="Group 15"/>
          <p:cNvGrpSpPr/>
          <p:nvPr/>
        </p:nvGrpSpPr>
        <p:grpSpPr>
          <a:xfrm>
            <a:off x="838080" y="1981080"/>
            <a:ext cx="5791320" cy="4192560"/>
            <a:chOff x="838080" y="1981080"/>
            <a:chExt cx="5791320" cy="4192560"/>
          </a:xfrm>
        </p:grpSpPr>
        <p:sp>
          <p:nvSpPr>
            <p:cNvPr id="368" name="Straight Connector 6"/>
            <p:cNvSpPr/>
            <p:nvPr/>
          </p:nvSpPr>
          <p:spPr>
            <a:xfrm flipH="1">
              <a:off x="838080" y="1981080"/>
              <a:ext cx="1440" cy="4191120"/>
            </a:xfrm>
            <a:prstGeom prst="line">
              <a:avLst/>
            </a:prstGeom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traight Connector 8"/>
            <p:cNvSpPr/>
            <p:nvPr/>
          </p:nvSpPr>
          <p:spPr>
            <a:xfrm>
              <a:off x="838080" y="6172200"/>
              <a:ext cx="5791320" cy="1440"/>
            </a:xfrm>
            <a:prstGeom prst="line">
              <a:avLst/>
            </a:prstGeom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 flipV="1">
              <a:off x="1752480" y="434340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11"/>
            <p:cNvSpPr/>
            <p:nvPr/>
          </p:nvSpPr>
          <p:spPr>
            <a:xfrm flipV="1">
              <a:off x="1828440" y="350496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12"/>
            <p:cNvSpPr/>
            <p:nvPr/>
          </p:nvSpPr>
          <p:spPr>
            <a:xfrm flipV="1">
              <a:off x="1904760" y="274284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Straight Arrow Connector 14"/>
            <p:cNvCxnSpPr/>
            <p:nvPr/>
          </p:nvCxnSpPr>
          <p:spPr>
            <a:xfrm flipV="1">
              <a:off x="3123720" y="3809520"/>
              <a:ext cx="1143720" cy="305280"/>
            </a:xfrm>
            <a:prstGeom prst="straightConnector1">
              <a:avLst/>
            </a:prstGeom>
            <a:ln w="38160">
              <a:solidFill>
                <a:srgbClr val="ea157a"/>
              </a:solidFill>
              <a:miter/>
              <a:tailEnd len="med" type="arrow" w="med"/>
            </a:ln>
          </p:spPr>
        </p:cxnSp>
      </p:grpSp>
      <p:sp>
        <p:nvSpPr>
          <p:cNvPr id="374" name="TextBox 16"/>
          <p:cNvSpPr/>
          <p:nvPr/>
        </p:nvSpPr>
        <p:spPr>
          <a:xfrm>
            <a:off x="1954080" y="6297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al Disposabl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8"/>
          <p:cNvSpPr/>
          <p:nvPr/>
        </p:nvSpPr>
        <p:spPr>
          <a:xfrm rot="16200000">
            <a:off x="-943200" y="3610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al Consumer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9"/>
          <p:cNvSpPr/>
          <p:nvPr/>
        </p:nvSpPr>
        <p:spPr>
          <a:xfrm>
            <a:off x="5638680" y="2514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0"/>
          <p:cNvSpPr/>
          <p:nvPr/>
        </p:nvSpPr>
        <p:spPr>
          <a:xfrm>
            <a:off x="5638680" y="3200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1"/>
          <p:cNvSpPr/>
          <p:nvPr/>
        </p:nvSpPr>
        <p:spPr>
          <a:xfrm>
            <a:off x="5638680" y="41148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2"/>
          <p:cNvSpPr/>
          <p:nvPr/>
        </p:nvSpPr>
        <p:spPr>
          <a:xfrm rot="20653800">
            <a:off x="2548800" y="402876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vements along (indu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24" descr=""/>
          <p:cNvPicPr/>
          <p:nvPr/>
        </p:nvPicPr>
        <p:blipFill>
          <a:blip r:embed="rId1"/>
          <a:stretch/>
        </p:blipFill>
        <p:spPr>
          <a:xfrm>
            <a:off x="5730840" y="2620800"/>
            <a:ext cx="1644840" cy="15606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5"/>
          <p:cNvSpPr/>
          <p:nvPr/>
        </p:nvSpPr>
        <p:spPr>
          <a:xfrm>
            <a:off x="6781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hifts (autono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Paradox of Thrif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aradox of Thrif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idea that an effort by a nation to save more may simply reduce national income and fail to raise total sav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 our attempt to save more, autonomous decrease in spending, there was a multiplied decrease in GDP and disposable income, leaving us with less with which to sav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58Z</dcterms:created>
  <dc:creator>sth_user</dc:creator>
  <dc:description/>
  <dc:language>en-US</dc:language>
  <cp:lastModifiedBy>HP Authorized Customer</cp:lastModifiedBy>
  <dcterms:modified xsi:type="dcterms:W3CDTF">2009-01-27T22:04:13Z</dcterms:modified>
  <cp:revision>16</cp:revision>
  <dc:subject/>
  <dc:title>Slide 1</dc:title>
</cp:coreProperties>
</file>